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DF1D-4EC5-476A-BBFF-CFCD4A893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8F8F-F79B-4898-B88A-A99B774DC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F0B4-C21B-48DE-A1ED-EAB4BB95C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1F51-B3D0-4739-8D6E-46D41F438C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23A23-2ED4-41B3-8A82-1B5FFCE1DF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317A-4C24-441E-8166-8B547FB48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AB61-18FC-4F76-9D34-057DF59CF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AC93-8FE1-43B6-BFF3-00778FDCF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5686-A9FF-4669-A405-8A2C402A7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45AA-294B-4020-B8DC-B78B7B5D6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1554-1B48-4E9A-BD31-4FBB4F6E4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D898-87FA-4A24-99E8-0A755DBA6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16A7-4A0B-4703-A8B3-BF391ABC1A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m/mikehuckab168095.html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3E34-C699-4012-89EF-58C1070FB6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3</a:t>
            </a:r>
            <a:r>
              <a:rPr b="0" lang="en-US" sz="3200" spc="-1" strike="noStrike">
                <a:solidFill>
                  <a:srgbClr val="d60093"/>
                </a:solidFill>
                <a:latin typeface="Tahoma"/>
                <a:ea typeface="Tahoma"/>
              </a:rPr>
              <a:t>: </a:t>
            </a:r>
            <a:r>
              <a:rPr b="0" lang="en-CA" sz="3200" spc="-1" strike="noStrike">
                <a:solidFill>
                  <a:srgbClr val="b42478"/>
                </a:solidFill>
                <a:latin typeface="Arial"/>
              </a:rPr>
              <a:t>Programming for Students with Learning Dis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Tuesday 2:45 – 4:45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43000"/>
            <a:ext cx="8686800" cy="976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Consolidation: Fraction</a:t>
            </a: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 lesson #2</a:t>
            </a:r>
            <a:br>
              <a:rPr sz="4400"/>
            </a:b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2280" y="8377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a partner from a different expert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primary fraction lesson #2 -  its learning goals, math content and what to expect from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ccommodations for this lesson based on all 5 cognitive processes. Use coloured dots to record where accommodations are to be used and write descriptions of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01FF-2F74-4892-8669-6E86287396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ion: </a:t>
            </a:r>
            <a:r>
              <a:rPr b="0" lang="en-CA" sz="3200" spc="-1" strike="noStrike" baseline="-25000">
                <a:solidFill>
                  <a:srgbClr val="2b5ca9"/>
                </a:solidFill>
                <a:latin typeface="Arial"/>
              </a:rPr>
              <a:t>(For your journal/treasure chest)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scribe three distinct ways you will use the understandings from these plenary/breakout sessions in your teac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3FA7-BA49-4E10-BB3F-983735FB81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242640"/>
            <a:ext cx="944892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2b5ca9"/>
                </a:solidFill>
                <a:latin typeface="Arial"/>
              </a:rPr>
              <a:t>Further Classroom Consolidation</a:t>
            </a:r>
            <a:br>
              <a:rPr sz="4200"/>
            </a:br>
            <a:endParaRPr b="0" lang="en-US" sz="4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ment on the implications of the following quote on your teaching car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Inside every human being there are treasures to unlock.”</a:t>
            </a:r>
            <a:br>
              <a:rPr sz="4000"/>
            </a:br>
            <a:r>
              <a:rPr b="0" lang="en-CA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ke Huckabe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04B6-941B-4055-BCBC-366638B1BB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1E23-5BE5-4F48-AA88-B9DC5632EE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4BFE-83FC-437D-B901-A9E70E6494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6BB1-5DB1-40D1-B20E-B454D6ACB9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4046-935B-40A1-A11E-70C2A68D25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AB97-2779-4883-961F-34907037AD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. E. P. </a:t>
            </a:r>
            <a:r>
              <a:rPr b="0" lang="en-US" sz="4400" spc="-1" strike="noStrike" baseline="-25000">
                <a:solidFill>
                  <a:srgbClr val="2b5ca9"/>
                </a:solidFill>
                <a:latin typeface="Arial"/>
              </a:rPr>
              <a:t>(Individual Education Plan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a partner that you have not yet m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unique set of words to be represented by the acronym IEP that reflects what Connie and Ruth discussed in the plena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.g. YRCDS: Inclusion Engagement Performance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acronyms with the larg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DB35-5422-4B2E-991F-F0F66E20B2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F240-00F8-4CB1-B7BD-13F9A75AD6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articipant Learning Goals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1219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nts wil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emonstrate understanding of 5 cognitive processes; verbal comprehension, perceptual reasoning, working memory, processing speed and visual motor integration and executive functio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pply understanding of 5 cognitive processes to program for students with learning disabil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5 Cognitive Process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 Compreh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u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Speed/Visual Motor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ve Func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D522-F056-4358-A275-B94107EF56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Jigsaw Activity: Applying our Learn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42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m Home Groups of 5 me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the primary fraction lesson -  its learning goals, math content and what to expect from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1 slip of the 5 colour coded papers from the set of 5 cognitive processes. You will represent the selected process in the hom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1D80-98F2-461C-BE07-D926557E83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5 Cognitive Process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2280" y="1523520"/>
            <a:ext cx="9220320" cy="2971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bal Comprehension (gre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ceptual Reasoning (pin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ing Memory (yellow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ssing Speed/Visual Motor Integration (blu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ecutive Functioning (whi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2291-55C5-419B-A2D9-53E18CB703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12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Expert Group Activity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me group members split into expert groups organized by cognitive process (about 9 members per expert group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ert groups develop accommodations for the lesson to enable the cognitiv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D13A-6384-48B8-B2DA-CA7741AE75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Home Group 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8600" y="91440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ach member presents the accommodations of their expert group for the les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mbers record accommod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mbers use coloured dots to track cognitive proc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BFF7-3187-45F7-A6DF-8FF5A22E17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2819520" y="3733920"/>
            <a:ext cx="624816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Comprehension (gr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ptual Reasoning (p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Memory (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ing Speed/Visual Motor Integration (b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ve Functioning (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Large Group Report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88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HA’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did you have as you engaged in this activity? Where were there overlaps in accommoda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imary students don’t usually have IEP’s. How can this understanding of cognitive processes be useful in teaching primary gra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345F-D19F-4571-9803-7C9531B1F7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Sandy DiLena</cp:lastModifiedBy>
  <dcterms:modified xsi:type="dcterms:W3CDTF">2012-07-08T19:18:59Z</dcterms:modified>
  <cp:revision>26</cp:revision>
  <dc:subject/>
  <dc:title>&lt;Title&gt;</dc:title>
</cp:coreProperties>
</file>